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DF94-7BE1-4104-A7AE-A7BBDEB1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001-5C16-4FD3-8499-E8A4D24D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417-E5CF-42E5-B7D7-C3308858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2610-376D-499E-ACB7-4A2DFBF0D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87E-A324-4720-B20C-6C77DA8D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3775-444F-4F9F-A066-E60A3B3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C1A-20CF-40F6-8C68-96698C99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C9C8-DE54-4773-A09C-86297E116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8EE5-2581-4C97-B990-193DC734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EBAF-9B80-4C9D-96B1-73F33134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FA7-8B75-42B3-BD6A-889655C2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20C-B4F6-4C55-BF23-C7C37471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53E8-037B-4533-8FEB-EFC819CEA0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53640" y="1859040"/>
            <a:ext cx="419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八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整理与复习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9480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应用广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21507"/>
          <p:cNvSpPr/>
          <p:nvPr/>
        </p:nvSpPr>
        <p:spPr>
          <a:xfrm>
            <a:off x="925560" y="1589040"/>
            <a:ext cx="601164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你在生活中发现哪些数学问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你能运用所学的数学知识解决哪些数学问题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48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49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交流问题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52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54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58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61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64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67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70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8049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找一些面是圆形的物体，研究做成圆形有什么好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组里依次展示组员收集到的圆形物体，按收集人先说明该物体的好处、其他组员后补充的顺序分析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组选择一个圆形物体准备全班展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文本占位符 36867" descr=""/>
          <p:cNvPicPr/>
          <p:nvPr/>
        </p:nvPicPr>
        <p:blipFill>
          <a:blip r:embed="rId1"/>
          <a:stretch/>
        </p:blipFill>
        <p:spPr>
          <a:xfrm>
            <a:off x="1349280" y="1628640"/>
            <a:ext cx="5600880" cy="3953160"/>
          </a:xfrm>
          <a:prstGeom prst="rect">
            <a:avLst/>
          </a:prstGeom>
          <a:ln w="0">
            <a:noFill/>
          </a:ln>
        </p:spPr>
      </p:pic>
      <p:grpSp>
        <p:nvGrpSpPr>
          <p:cNvPr id="75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76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77" name="圆角矩形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想一想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80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82" name="椭圆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86" name="椭圆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89" name="圆角矩形 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92" name="圆角矩形 1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95" name="圆角矩形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98" name="圆角矩形 1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00160" y="500040"/>
            <a:ext cx="5843520" cy="52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80800" y="1931760"/>
            <a:ext cx="6033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观察今年的年历，算一算，五月份的法定休息日占这个月天数的几分之几？上学的天数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103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104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想一想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107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109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113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116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119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122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125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428840" y="1755720"/>
            <a:ext cx="5829120" cy="37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折线图所表达的信息，横轴和纵轴个表示什么数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随着纵轴上时间的变化，折线的点所表示的距离相应地发生了怎样的变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还能提出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组合 2"/>
          <p:cNvGrpSpPr/>
          <p:nvPr/>
        </p:nvGrpSpPr>
        <p:grpSpPr>
          <a:xfrm>
            <a:off x="50760" y="852480"/>
            <a:ext cx="3245040" cy="525600"/>
            <a:chOff x="50760" y="852480"/>
            <a:chExt cx="3245040" cy="525600"/>
          </a:xfrm>
        </p:grpSpPr>
        <p:grpSp>
          <p:nvGrpSpPr>
            <p:cNvPr id="129" name="圆角矩形 5"/>
            <p:cNvGrpSpPr/>
            <p:nvPr/>
          </p:nvGrpSpPr>
          <p:grpSpPr>
            <a:xfrm>
              <a:off x="196200" y="852480"/>
              <a:ext cx="3099600" cy="525600"/>
              <a:chOff x="196200" y="852480"/>
              <a:chExt cx="3099600" cy="525600"/>
            </a:xfrm>
          </p:grpSpPr>
          <p:pic>
            <p:nvPicPr>
              <p:cNvPr id="130" name="圆角矩形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200" y="852480"/>
                <a:ext cx="3099600" cy="5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240120" y="926640"/>
                <a:ext cx="295020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" spc="-1" strike="noStrike">
                    <a:solidFill>
                      <a:srgbClr val="ffffff"/>
                    </a:solidFill>
                    <a:latin typeface="宋体"/>
                  </a:rPr>
                  <a:t>交流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组合 4"/>
            <p:cNvGrpSpPr/>
            <p:nvPr/>
          </p:nvGrpSpPr>
          <p:grpSpPr>
            <a:xfrm>
              <a:off x="50760" y="968040"/>
              <a:ext cx="428400" cy="187560"/>
              <a:chOff x="50760" y="968040"/>
              <a:chExt cx="428400" cy="187560"/>
            </a:xfrm>
          </p:grpSpPr>
          <p:sp>
            <p:nvSpPr>
              <p:cNvPr id="133" name="椭圆 7"/>
              <p:cNvSpPr/>
              <p:nvPr/>
            </p:nvSpPr>
            <p:spPr>
              <a:xfrm rot="16200000">
                <a:off x="365400" y="104184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椭圆 8"/>
              <p:cNvGrpSpPr/>
              <p:nvPr/>
            </p:nvGrpSpPr>
            <p:grpSpPr>
              <a:xfrm>
                <a:off x="350280" y="1082160"/>
                <a:ext cx="114120" cy="66240"/>
                <a:chOff x="350280" y="1082160"/>
                <a:chExt cx="114120" cy="66240"/>
              </a:xfrm>
            </p:grpSpPr>
            <p:pic>
              <p:nvPicPr>
                <p:cNvPr id="135" name="椭圆 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280" y="1082160"/>
                  <a:ext cx="114120" cy="66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6200000">
                  <a:off x="382680" y="1072440"/>
                  <a:ext cx="4788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椭圆 9"/>
              <p:cNvSpPr/>
              <p:nvPr/>
            </p:nvSpPr>
            <p:spPr>
              <a:xfrm rot="16200000">
                <a:off x="365400" y="936720"/>
                <a:ext cx="82440" cy="14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27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椭圆 10"/>
              <p:cNvGrpSpPr/>
              <p:nvPr/>
            </p:nvGrpSpPr>
            <p:grpSpPr>
              <a:xfrm>
                <a:off x="350280" y="974160"/>
                <a:ext cx="114120" cy="69480"/>
                <a:chOff x="350280" y="974160"/>
                <a:chExt cx="114120" cy="69480"/>
              </a:xfrm>
            </p:grpSpPr>
            <p:pic>
              <p:nvPicPr>
                <p:cNvPr id="139" name="椭圆 1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50280" y="974160"/>
                  <a:ext cx="114120" cy="6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" name=""/>
                <p:cNvSpPr/>
                <p:nvPr/>
              </p:nvSpPr>
              <p:spPr>
                <a:xfrm rot="16200000">
                  <a:off x="383040" y="967320"/>
                  <a:ext cx="47520" cy="8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圆角矩形 12"/>
              <p:cNvGrpSpPr/>
              <p:nvPr/>
            </p:nvGrpSpPr>
            <p:grpSpPr>
              <a:xfrm>
                <a:off x="50760" y="1103040"/>
                <a:ext cx="392040" cy="52200"/>
                <a:chOff x="50760" y="1103040"/>
                <a:chExt cx="392040" cy="52200"/>
              </a:xfrm>
            </p:grpSpPr>
            <p:pic>
              <p:nvPicPr>
                <p:cNvPr id="142" name="圆角矩形 1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0760" y="1103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" name=""/>
                <p:cNvSpPr/>
                <p:nvPr/>
              </p:nvSpPr>
              <p:spPr>
                <a:xfrm rot="16200000">
                  <a:off x="245160" y="968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圆角矩形 14"/>
              <p:cNvGrpSpPr/>
              <p:nvPr/>
            </p:nvGrpSpPr>
            <p:grpSpPr>
              <a:xfrm>
                <a:off x="50760" y="1078920"/>
                <a:ext cx="392040" cy="52200"/>
                <a:chOff x="50760" y="1078920"/>
                <a:chExt cx="392040" cy="52200"/>
              </a:xfrm>
            </p:grpSpPr>
            <p:pic>
              <p:nvPicPr>
                <p:cNvPr id="145" name="圆角矩形 1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0760" y="107892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 rot="16200000">
                  <a:off x="245160" y="942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圆角矩形 17"/>
              <p:cNvGrpSpPr/>
              <p:nvPr/>
            </p:nvGrpSpPr>
            <p:grpSpPr>
              <a:xfrm>
                <a:off x="50760" y="995040"/>
                <a:ext cx="392040" cy="52200"/>
                <a:chOff x="50760" y="995040"/>
                <a:chExt cx="392040" cy="52200"/>
              </a:xfrm>
            </p:grpSpPr>
            <p:pic>
              <p:nvPicPr>
                <p:cNvPr id="148" name="圆角矩形 1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0760" y="99504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6200000">
                  <a:off x="245160" y="86040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圆角矩形 18"/>
              <p:cNvGrpSpPr/>
              <p:nvPr/>
            </p:nvGrpSpPr>
            <p:grpSpPr>
              <a:xfrm>
                <a:off x="50760" y="970560"/>
                <a:ext cx="392040" cy="52200"/>
                <a:chOff x="50760" y="970560"/>
                <a:chExt cx="392040" cy="52200"/>
              </a:xfrm>
            </p:grpSpPr>
            <p:pic>
              <p:nvPicPr>
                <p:cNvPr id="151" name="圆角矩形 18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50760" y="970560"/>
                  <a:ext cx="392040" cy="52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6200000">
                  <a:off x="245160" y="834120"/>
                  <a:ext cx="6840" cy="32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6T03:18:3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